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8280-31D7-4432-8450-3194FED40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D76D-7554-4B78-A3A6-59209926B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5AE-75D6-4926-B244-2031C246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B76-8C7B-441F-83A0-4E211F5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B9C-E73B-4323-A42B-ADC143C5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CCC-1401-44C1-BB0C-0453A004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D839-3E9F-49FA-9BFA-104B8E50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5B54-CCC6-47A9-910D-E36FD90B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22DD-3B1E-47D7-BB01-9AE555B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E71D-9F9C-492D-A6EB-E7A6FBF8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FB2D-05AE-4872-BCB0-9F493FF7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04EA-DC27-443A-AC8B-EF56E5E3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400D-9ED5-45CA-96DD-E7BAC009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813-4248-4EE1-A79F-F1135944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A390-85DE-4787-B3AC-7C8EF193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2E72-72FB-4AD7-8E99-8B6725F5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24A0-87C6-47A9-A808-AE811402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1413-C86A-4149-BD97-1F6A4F02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43B4-6C24-43A4-BA51-B520C1A1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E2C0-87F3-45E7-ADC6-2C64CD7A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59CC-52F8-4E10-B1BA-5A1D4982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8CDE-7C21-4A77-9391-2583304F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67F3-BF9F-42D0-9C43-BC184818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441C-A430-4F55-93DE-5591F19A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D35-55CA-4825-99EE-A72B3F9C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A4B7-B6CF-48D7-95E8-143EC195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1B6EC-4F02-463C-938B-F8D06F02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F57C-C21D-488E-A7EC-B43AF3E2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B981-954E-4A2F-9873-7973178C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3AA9-42E5-45E0-ACBB-0580EBCF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7261-482E-4003-AAA7-A5E507F3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DC58-CB71-4FAC-9881-ECEB1B61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36C5-614D-4BE1-B5A4-F32ECE9C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327AB-2900-4810-9282-FAE09C7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64B1-1FCE-4F94-88C1-322DF53B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570-D39C-4264-8D63-ECFB1942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B79F-1747-4279-AC15-810ADDFC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BE5AE-0768-42A0-A770-094D620A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A55D-9665-4CA2-B4A1-4393F24B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3B61-BF91-4779-BD47-0626A98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CA9B0-C9DE-4910-A76A-E4162742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FE99-6562-4F0E-9B1F-25BC64CA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C33B-3F5A-4096-B0A9-7B7A9083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8F04-F221-47DA-AE6D-FF63CCAC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430D-7334-4085-B1A6-158BF8E2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384D-0C82-4ACC-86F2-3ACE4F9A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0DF-E963-4A22-AFFD-DD84CCC5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D94A-04CF-430E-A645-7E61094D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9236-6B02-4FE9-BA1B-11A00AE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DD47-732D-4BD9-A33D-BF7CD3E4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4788-A0A4-4CF8-B90C-FA34ABFC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7F5A1-E2AF-4917-8B9A-D418E03A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932F6-3438-452E-B908-6066EBD2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2172A-E0EE-4BC5-9F68-00D679A0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9481F-A200-40D4-9359-E93BA0A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371E0-30D0-4EFB-91DC-7B51CAC4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5B9E-C342-4397-8B41-03D9E62D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0E2-339F-4290-9DC6-1040B693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886C-10C5-4284-98C4-D265078B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3083-96B7-4ECD-A6D1-F73DFD4A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406CA-58C4-43B4-BD83-CE9901BF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6C97B-4387-42AE-8716-B9A418E1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2FF0-B81C-4A85-8CE3-EE6BCF87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0D429-8910-48AD-9B3C-D63F84DD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A2F9D-8135-4F7F-B52B-AA95E5F3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37BE6-F5E1-474A-A87B-31A6569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B7692-4262-4DCC-951D-E977E18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11FD1-2DBC-4CAF-933E-737744B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31D-828A-4FE8-9DE6-BB16BAC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D7959-FC55-4967-B268-568A3CEF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8BA66-82A4-46D5-A405-2C981D29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DBD96-3946-4236-9DE9-E791AF74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DD86B-BE0F-49CD-989A-56A21DDE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11464-3CAF-4BEE-AFD3-76DB95A2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1B25B-F129-4BA1-BAB4-A975F36B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77117-20E6-42A3-BC48-3325B5D2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881B9-F667-4319-80D1-5AB20C99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7CF83-6EA1-4400-BAE1-9DDF9C80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3F586-E6E4-43F9-B61B-AB04EE13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BBC-E7FE-47D9-BD2B-6C98451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5AB51-DDAC-4E77-8D45-85B55588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C49EF-830B-44E2-8D69-B0C8CA5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4553C-4123-40A6-9BFB-82EAE97C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B75CD-11F2-4F60-BF52-53C851B6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C400F-957D-4286-BAE7-162F12EF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9E82F-F613-4BB3-90F3-7EA721E6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FB82A-FEC0-49E9-B816-1A0BFEB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6D250-90B4-4BB2-886D-3E5A8BD1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F6BBD-D88F-4E88-9C32-584B43ED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F813F-DD8E-4987-95F9-8D25CA39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E19-744F-4F6D-93A8-A8869798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8174F-A4BF-4A70-AD11-EEA6EC47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0D6EC-6945-42EE-A6D6-2F8F48BF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115FD-D394-4804-ACD4-0276D33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7951A-511A-48D6-AA2B-8748B540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08AC-41F5-4FE9-9647-132F378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D8567-A59B-4605-9A31-17FF635F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901BC-08AF-4AE6-88AC-B0929C06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E107-6018-413C-B798-32DF0F3D8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77E5-2514-4B32-8DF5-758B90BF3763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C92C-B99B-483C-B980-C61C1FDA9AE5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4DD4-3177-4E2E-A648-F842F9D00125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01C7-9A96-4EE5-8862-C2B09380CB9E}" type="slidenum">
              <a:rPr b="0" lang="en-US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44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773C-7BB3-495B-8F43-D1DA304D8F69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92F0-E99F-4448-9F81-D712B60CF195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9AEB-DAAE-47AA-8225-60AFEF40A550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614B-4E7E-4C7C-AD0E-C29837AB3CCE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236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13D8-F87B-4298-90E0-A573CF20C6F7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E709-7E3A-4BEE-8DA9-400C42539983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83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33E2-A1B0-43F1-9020-32BB707845E0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73CA-C66E-4543-BCB6-F9AC73426EDD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8CB1-A683-48BD-B8A9-BB05EE68C304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83CC-E865-4EE3-8CCC-10E95C4B4396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13960" y="162828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КОНЦЕПЦИЯ РАЗВИТИЯ </a:t>
            </a:r>
            <a:r>
              <a:rPr b="1" lang="en-US" sz="2400" spc="-1" strike="noStrike">
                <a:solidFill>
                  <a:srgbClr val="40382d"/>
                </a:solidFill>
                <a:latin typeface="Book Antiqua"/>
              </a:rPr>
              <a:t>Г</a:t>
            </a: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.ВЛАДИКАВКАЗА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19640" y="2997360"/>
            <a:ext cx="2232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5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«5</a:t>
            </a:r>
            <a:r>
              <a:rPr b="1" lang="en-US" sz="5400" spc="-1" strike="noStrike">
                <a:solidFill>
                  <a:srgbClr val="6c271b"/>
                </a:solidFill>
                <a:latin typeface="Century Gothic"/>
              </a:rPr>
              <a:t>x</a:t>
            </a: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5»</a:t>
            </a:r>
            <a:endParaRPr b="0" lang="en-US" sz="5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1" name="TextBox 1"/>
          <p:cNvSpPr/>
          <p:nvPr/>
        </p:nvSpPr>
        <p:spPr>
          <a:xfrm>
            <a:off x="954000" y="4194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достижений за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благодаря которым Владикавказ станет привлекательне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новых микрорайонов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(Московский квартал, Новый город, Северный)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микрорайонов (микрорайоны №31-32, микрорайон в поселке Карца) 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3:14:09Z</dcterms:created>
  <dc:creator>Вера</dc:creator>
  <dc:description/>
  <dc:language>en-US</dc:language>
  <cp:lastModifiedBy>Вера</cp:lastModifiedBy>
  <dcterms:modified xsi:type="dcterms:W3CDTF">2013-04-17T07:48:32Z</dcterms:modified>
  <cp:revision>2</cp:revision>
  <dc:subject/>
  <dc:title>Концепция развития г.владикавказа</dc:title>
</cp:coreProperties>
</file>